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DI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Surgery</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gery is a branch of medicine that is concerned with the treatment of diseases, deformities, and injuries by manual and instrumental means. Surgery basically involves the management of acute injuries and illnesses as differentiated from chronic, slowly progressing diseases, except when patients with the latter type of diseases must be operated upon. Surgery can be used to repair broken bones, stop uncontrolled bleeding, remove injured or diseased tissue and organs, and reattach severed limbs. Exploratory surgery helps physicians diagnose conditions that cannot be detected by traditional tests. It allows for examination of internal organs for signs of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ns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el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irp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i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llbladd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ps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
          <p:cNvSpPr txBox="1"/>
          <p:nvPr/>
        </p:nvSpPr>
        <p:spPr>
          <a:xfrm>
            <a:off x="457200" y="2287080"/>
            <a:ext cx="8229600" cy="45262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urgery concerned with?</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is exploratory surgery important?</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were the first surgical procedures performed?</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repanning?</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id surgery develop during the Middle Age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arked the beginning of modern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major categories of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laparoscop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all major medical specialties involving surgery.</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es general surgery center on?</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preoperative, intraoperative and postoperative care.</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significance of modern advances in diagnostic and surgical techniqu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single words in the text giving the same meaning as:</a:t>
            </a:r>
            <a:endParaRPr b="0" lang="en-US" sz="2400" spc="-1" strike="noStrike">
              <a:solidFill>
                <a:srgbClr val="000000"/>
              </a:solidFill>
              <a:latin typeface="Arial"/>
            </a:endParaRPr>
          </a:p>
        </p:txBody>
      </p:sp>
      <p:sp>
        <p:nvSpPr>
          <p:cNvPr id="48"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urt or damage to the body, caused by an accid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lessen or remove (pain or di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remake, repair, (something brok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al of a part of the body by cutt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ing out, easily see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natural or real; made by hum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rt on either side of the body above the le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find out, decide, the amount or value of someth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ence of bacteria or other microorganis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ing a tendency to spread or invade healthy tissu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efixes IM-, UN-, IN-, and DIS- to form words opposite to:</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cessa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l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equatel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 the sentences with The Present Simple Tense or a future form of the verbs in brackets:</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she (work) when she (leave) this faculty?</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w student soon (settle down) once he (get) to know the others in that cour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soon as we (hear) from the suppliers, we (let) you know when these medications (be) in stoc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r sister (not tell) him everything now, he simply (keep on) asking her until she (do).</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be) absent from the meeting when the new term (begin) next week.</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have) to decide what to do about these projects before your professor (call) you.</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he (wait) much longer before she (make up) her mind, we (hire) somebody else.</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one of the suggested topics and write a few sentences about it:</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yosurgery – yes or n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mportance of laser surge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tic surgery – yes or n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1T21:46:40Z</dcterms:modified>
  <cp:revision>32</cp:revision>
  <dc:subject/>
  <dc:title>Slide 1</dc:title>
</cp:coreProperties>
</file>